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EED-9557-4A8D-BD8D-7BB108EE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92C-1812-40CD-98B7-9EDD9890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DC60-E411-49DE-B5F7-3E2C1075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558-565B-4FDA-A3B8-3C0C4B35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6E9-9A20-40F8-BDD8-74841265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D621-91CA-4F97-8539-7E4A8388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7D8-6CEE-4E05-8EDD-31B2AE80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C4D-4B8D-4336-AD4B-0F9D37F3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C32-8265-4DE6-A2FA-C1545E79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5835-4576-4F83-B36C-19097926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80B8-01DD-48E0-A3ED-DB08BF3D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758-93A7-4BAD-BA41-806AABDB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FC36-D896-4BED-92AD-D81543723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LAlcor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5/Kkk-carpetbagger-cartoo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wa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wags was a name given to southerners who didn’t support the Confede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ooperated with the slaves to rebuild the Sou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eant “scoundrel” or “worthless rasca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t came about: southerners thought scalawags were bad people for not supporting the confede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wags were already in the sou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non slave holding farmers or business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James L. Alcor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143000"/>
            <a:ext cx="3845160" cy="487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6172200"/>
            <a:ext cx="292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James_L._Al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61722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L. Alcorn (a scalaw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petbagg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-Carpetbaggers is a derogatory term that was given to northerners who traveled to the south for any reason. Although it was an insult some of them were really interested in helping the sla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he name came about: The name came from the carpet bags that they used to carry their posse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y were found by the Ku Klux Klan they were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petbaggers were greedy; they came to the south for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File:Kkk-carpetbagger-carto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295280"/>
            <a:ext cx="4419720" cy="472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24280" y="62485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en.wikipedia.org/wiki/File:Kkk-carpetbagger-cartoon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by, Joyce et. al. (2003). The American Republic to 1877. New York: Glencoe/McGraw-Hi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Highways, Retrieved May 8, 2009, from Scalawags and Carpetbaggers Web site: http://www.u-s-history.com/pages/h240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8:58:04Z</dcterms:created>
  <dc:creator>cfisd</dc:creator>
  <dc:description/>
  <dc:language>en-US</dc:language>
  <cp:lastModifiedBy>cfisd</cp:lastModifiedBy>
  <dcterms:modified xsi:type="dcterms:W3CDTF">2009-05-08T18:56:25Z</dcterms:modified>
  <cp:revision>8</cp:revision>
  <dc:subject/>
  <dc:title>Slide 1</dc:title>
</cp:coreProperties>
</file>